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7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7C4F-704B-4B0F-BFB2-973D075C0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416D-9EDE-479E-B77E-BAAEFF81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182F-AA0B-4452-AF0A-16A03B4B5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FFBD-CED9-4827-AF62-055D00ADC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5263-AF8A-4B9D-8B95-BCDDE6C6F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276F-1EC3-4F76-A674-F1297464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7C38-B9A5-49EA-8766-8A5CA665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7EBA-E63A-40DE-9394-F5F73CAF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6643-B7DA-413D-8CC0-2A315967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1FA3-4122-4570-9FBF-59228214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595A-0547-46F3-89FC-F909F1A9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DC04-B91A-4F67-911E-12AB026B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3B66-6B33-4BE8-BE30-A24E1779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9CA7-9F65-4A0F-81B6-F270E0EC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BC62-12E3-4418-B1EA-2F3F779F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61BB-78A7-4CBA-AB52-38EF77D94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CEBA-4C06-4E43-8506-06DFB451C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5CE1C3-22F6-460A-8991-060927E09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4839F3-B748-41BC-A05B-2E00C467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224FA5-F997-47DA-AA0E-7A0F067E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4C4D57-6077-4754-AEC5-E26B2657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A28BD7-1231-4613-9A46-C1B5587A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C155-1177-4DFD-ABEE-FD1F2CFA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16AC56-FD9E-4FD4-955F-24FAB0BE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E9CE90-0A66-4349-8623-6785FAFA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C06811-77A7-4BEC-BADC-A572778D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0F1FF4-F7BA-42DB-A303-EFA1B7A1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44D67D-5EA4-401A-9443-BB1C4A8E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A9643C-50AA-4409-B34A-E22D0B6F8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113968-E305-4067-A51B-4A8907A5F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FAD7D-DEE7-4D0F-BA85-879DAFAA4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1A3C6-A9DF-47B6-A948-7A04B1BF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956F8-CFA2-4D19-9DD9-F95280E2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AEB1-CEE6-43CA-9E11-611920F5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DD7AD-4A79-4138-B340-037AE9C1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329F8-0EB6-4D9D-B395-5AFDBB1C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E82C6-B2F8-4474-B4B3-A9CC8867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A5D70-CE35-454C-9BFA-9594A457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E9218-0E75-4C01-9FA8-2523F29B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96EDF-49F0-4D5B-82FA-9941A65E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EBE36-8F63-4B66-8198-9360FC2B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BC304-3917-481D-9EF6-803E499D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ABC6D-9322-4B5E-BEF5-740B56C38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C479-3B55-4DA7-9A99-5F2A21DA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ECA0-D828-48C2-95B2-EB227DFF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4CA2-5E30-4F14-920C-6CA45CE8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6254-8782-4BDD-8788-A3C2CE29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5612-3DD7-4E70-9530-90697A0D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Microsoft Sans Seri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Microsoft Sans Serif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06D1-5F02-4346-9BE0-4E139B24BC2D}" type="slidenum"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Microsoft Sans Seri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Microsoft Sans Serif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4EC4-9B69-47FB-8E68-9D974C0BD2CF}" type="slidenum"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Microsoft Sans Seri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Microsoft Sans Serif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5286-ACB9-4A56-8FB4-06EBF1DF831B}" type="slidenum"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Microsoft Sans Seri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Microsoft Sans Serif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89E2-C543-4391-846A-57C7F35B381C}" type="slidenum"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docid=rwMWPLlQ3nXfGM&amp;tbnid=12qTD16l8kHpgM:&amp;ved=0CAUQjRw&amp;url=http%3A%2F%2Fwww.city-data.com%2Fforum%2Fphotography%2F493951-balloons-hot-air-balloons-2.html&amp;ei=Wj41Uey4L5O40QGRkIC4CQ&amp;bvm=bv.43148975,d.dmQ&amp;psig=AFQjCNFhXrzpqKqTtYkZbe5dK9pJjVPAwA&amp;ust=1362530234704067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docid=BYwyKmzEJ9d9tM&amp;tbnid=lZTBywHJcXgl7M:&amp;ved=0CAUQjRw&amp;url=http%3A%2F%2Fwww.kalipedia.com%2Fecologia%2Ftema%2Fequivalencia-escalas.html%3Fx%3D20070924klpcnafyq_21.Kes%26ap%3D0&amp;ei=Fz81UbPdIeu30AGR0IDIDg&amp;bvm=bv.43148975,d.dmQ&amp;psig=AFQjCNGCuxyZsz9CxctAiIFS1wC7Oi9DVw&amp;ust=1362530445848583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docid=7_iZK3UNdpZ0SM&amp;tbnid=E8PCK6bM1Q2jKM:&amp;ved=0CAUQjRw&amp;url=http%3A%2F%2Fandeducation.co.uk%2FScience-Active%2Fmatterweb%2Fparticles.htm&amp;ei=lz01UcG6DIrL0wGQhoC4Bg&amp;bvm=bv.43148975,d.dmQ&amp;psig=AFQjCNFgEzdZ3JKyVsa-ligIvyhXBARoGQ&amp;ust=1362529989151435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docid=bxJ0Tjr3_ePdSM&amp;tbnid=LLzAoqUYOjJyNM:&amp;ved=0CAUQjRw&amp;url=http%3A%2F%2Fen.wikipedia.org%2Fwiki%2FBrownian_motion&amp;ei=wT81Udr_BurB0QHdv4CYAQ&amp;psig=AFQjCNF1bNZsM4ggpk6lcfDo2IHQDHyh-A&amp;ust=1362530607519517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ritannica.com/EBchecked/media/95584/The-atmospheres-of-planets-in-the-solar-system-are-composed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hapter 10</a:t>
            </a:r>
            <a:endParaRPr b="0" lang="en-US" sz="44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Microsoft Sans Serif"/>
              </a:rPr>
              <a:t>The Kinetic Theory of Matter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Microsoft Sans Serif"/>
              </a:rPr>
              <a:t>Kinetic Models of Liquids and Solids</a:t>
            </a:r>
            <a:endParaRPr b="0" lang="en-US" sz="36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0210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Interparticle forces in a liquid maintain their volume, but not their shape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particles of a liquid can slide past each other, but they are so close together that they don’t move straight or smooth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trong forces between particles explain the rigid structure of solids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is arrangement is called a crystal lattice</a:t>
            </a:r>
            <a:r>
              <a:rPr b="0" i="1" lang="en-US" sz="26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Particles of a solid cannot move past each other, but they bounce off of one another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Other Forms of Matter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8684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Materials called liquid crystals lose their rigid organization in only one or two dimensions when they melt.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Interparticle forces are relatively weak, and they can flow like a liquid when the lattice is broken.</a:t>
            </a:r>
            <a:endParaRPr b="0" lang="en-US" sz="2400" spc="-1" strike="noStrike">
              <a:solidFill>
                <a:srgbClr val="438086"/>
              </a:solidFill>
              <a:latin typeface="Microsoft Sans Serif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An amorphous materia</a:t>
            </a:r>
            <a:r>
              <a:rPr b="0" i="1" lang="en-US" sz="2600" spc="-1" strike="noStrike">
                <a:solidFill>
                  <a:srgbClr val="000000"/>
                </a:solidFill>
                <a:latin typeface="Microsoft Sans Serif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 has a haphazard, disjointed, and incomplete crystal lattice.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A plasma is an ionized gas.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It can conduct electrical current, but it is electrically neutral.</a:t>
            </a:r>
            <a:endParaRPr b="0" lang="en-US" sz="24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Pre-Class Question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Why is the air inside a hot air balloon heated?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241" name="Picture 5" descr="http://www.city-data.com/forum/attachments/photography/44958d1247413674-balloons-hot-air-balloons-balloon-pics-03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3200400"/>
            <a:ext cx="40273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Temperature and Kinetic Energy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 temperature of a material is a measure of the average kinetic energy of particles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As temperature increases, kinetic energy also increases and vice versa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Could kinetic energy ever be zero?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The temperature at which a substance would have zero kinetic energy is called absolute zero.</a:t>
            </a:r>
            <a:endParaRPr b="0" lang="en-US" sz="2400" spc="-1" strike="noStrike">
              <a:solidFill>
                <a:srgbClr val="53548a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Kelvin scale is defined so that the temperature of a substance is directly proportional to the average kinetic energy of the particles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Temperature Conversions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Kelvin to Celsius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Celsius = Kelvin - 273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elsius to Kelvin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Kelvin = Celsius + 273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  <p:pic>
        <p:nvPicPr>
          <p:cNvPr id="246" name="Picture 5" descr="http://www.kalipedia.com/kalipediamedia/cienciasnaturales/media/200709/24/fisicayquimica/20070924klpcnafyq_8.Ees.SCO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2209680"/>
            <a:ext cx="4038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Mass, Speed and Kinetic Energy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0210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993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wo gases at the same temperature will have the same kinetic energy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993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If the gases have the same mass, then they will also travel at the same speed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993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If one gas is lighter than the other, the lighter gas will travel faster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993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icrosoft Sans Serif"/>
            </a:endParaRPr>
          </a:p>
          <a:p>
            <a:pPr marL="993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Diffusion is the process by which particles of matter fill a space because of random motion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993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Heavier particles diffuse more slowly than lighter ones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993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993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Pre-Class Questions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What is the freezing point of water?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What is the melting point of ice?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251" name="Picture 5" descr="http://www.personalrefrigeration.co.uk/images/PR%20images/melting_ice_cubes.jpg"/>
          <p:cNvPicPr/>
          <p:nvPr/>
        </p:nvPicPr>
        <p:blipFill>
          <a:blip r:embed="rId1"/>
          <a:stretch/>
        </p:blipFill>
        <p:spPr>
          <a:xfrm>
            <a:off x="3657600" y="3352680"/>
            <a:ext cx="506736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Change of State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Evaporation is the process by which particles of a liquid form a gas by escaping from the surface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area of the surface, temperature, and humidity affect the rate of evaporation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Liquids that evaporate quickly are volatile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 process by which particles of a solid escape from its surface and form a gas is called sublimation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254" name="Picture 5" descr="http://www.aboutcivil.org/imajes/evaporation.jpg"/>
          <p:cNvPicPr/>
          <p:nvPr/>
        </p:nvPicPr>
        <p:blipFill>
          <a:blip r:embed="rId1"/>
          <a:stretch/>
        </p:blipFill>
        <p:spPr>
          <a:xfrm>
            <a:off x="4168800" y="4724280"/>
            <a:ext cx="380988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Change of State Continued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8684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ondensation is the process of gas particles coming closer together (condense) and form a liquid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 pressure of a substance in equilibrium with it’s liquid is called its vapor pressure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Volatile substances have high vapor pressures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boiling point of a substance is the temperature of a substance when its vapor pressure equals the pressure exerted on the surface of the liquid (atmospheric pressure)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Heat Energy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8684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 energy absorbed when 1 kg of a liquid vaporizes at its normal boiling point is called its heat of vaporization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joule is the SI unit of energy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Heat of vaporization for water is 2.26x1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Microsoft Sans Serif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Joules/kg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Burns from steam are usually more severe than burns received form hot water.  This is because the steam transfers a great deal of heat to the skin when it condenses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Pre-Class Question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Look at the two containers of liquid.  Which container has the greater volume of liquid?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Look at the two balloons.  Which balloon has the greater volume of gas?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Heat of Vaporization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How much heat is absorbed by 300k of water as it vaporizes at 10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Microsoft Sans Serif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?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Heat Energy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8684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 melting point is the temperature of the solid when its crystal lattice begins to fall apart to become a liquid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 temperature of a liquid when it begins to form a crystal lattice and becomes a solid is called its freezing point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energy released as 1 kg of a substance solidifies at its freezing point is called its heat of fusion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heat of fusion for water is 3.34x1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Microsoft Sans Serif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Joules/kg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Heat of fusion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How much heat is released by 2.3Kg of water as it solidifies at its freezing point?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Change of State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pic>
        <p:nvPicPr>
          <p:cNvPr id="266" name="Content Placeholder 3" descr=""/>
          <p:cNvPicPr/>
          <p:nvPr/>
        </p:nvPicPr>
        <p:blipFill>
          <a:blip r:embed="rId1"/>
          <a:srcRect l="1546" t="2937" r="13323" b="2674"/>
          <a:stretch/>
        </p:blipFill>
        <p:spPr>
          <a:xfrm>
            <a:off x="6172200" y="685800"/>
            <a:ext cx="2755800" cy="29275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"/>
          <p:cNvPicPr/>
          <p:nvPr/>
        </p:nvPicPr>
        <p:blipFill>
          <a:blip r:embed="rId2"/>
          <a:stretch/>
        </p:blipFill>
        <p:spPr>
          <a:xfrm>
            <a:off x="101520" y="2666880"/>
            <a:ext cx="58802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Physical Behavior of Matter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re is a close relationship between the physical state of a substance and its temperature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You will discover that the state of any matter is determined by the motion of its particles and the attractive forces between them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States of Matter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868400"/>
            <a:ext cx="853452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A solid is rigid with a definite shape.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Solids are rigid because the atoms, ions, or molecules that make up a solid are fixed in place.</a:t>
            </a:r>
            <a:endParaRPr b="0" lang="en-US" sz="2000" spc="-1" strike="noStrike">
              <a:solidFill>
                <a:srgbClr val="438086"/>
              </a:solidFill>
              <a:latin typeface="Microsoft Sans Serif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A liquid is flowing matter with a definite volume but an indefinite shape.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A liquid takes the shape of its container because the particles of a liquid can move and easily glide over each other.</a:t>
            </a:r>
            <a:endParaRPr b="0" lang="en-US" sz="2000" spc="-1" strike="noStrike">
              <a:solidFill>
                <a:srgbClr val="438086"/>
              </a:solidFill>
              <a:latin typeface="Microsoft Sans Serif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A gas is flowing, compressible matter that has NO definite volume or shape.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he particles that make up a gas are much farther apart, so they can be easily pushed together.</a:t>
            </a:r>
            <a:endParaRPr b="0" lang="en-US" sz="2000" spc="-1" strike="noStrike">
              <a:solidFill>
                <a:srgbClr val="438086"/>
              </a:solidFill>
              <a:latin typeface="Microsoft Sans Serif"/>
            </a:endParaRPr>
          </a:p>
        </p:txBody>
      </p:sp>
      <p:pic>
        <p:nvPicPr>
          <p:cNvPr id="222" name="Picture 5" descr="http://andeducation.co.uk/Science-Active/matterweb/img0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4876920"/>
            <a:ext cx="505116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The Kinetic Theory of Matter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33520" y="18684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 constant, random motion of tiny chunks of matter is called Brownian motion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 kinetic theory states that submicroscopic particles of matter are in constant, random motion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energy of moving objects is called kinetic energy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  <p:pic>
        <p:nvPicPr>
          <p:cNvPr id="225" name="Picture 5" descr="http://upload.wikimedia.org/wikipedia/commons/6/6d/Translational_motion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6200" y="5029200"/>
            <a:ext cx="193824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Kinetic Model of Gases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8684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Gas particles do not lose kinetic energy when they collide with the walls of their container or with another gas particle.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Each gas particle rebounds without losing speed but in a new direction.</a:t>
            </a:r>
            <a:endParaRPr b="0" lang="en-US" sz="24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Collisions of particles in a gas are called elastic collisions because no kinetic energy is lost.</a:t>
            </a:r>
            <a:endParaRPr b="0" lang="en-US" sz="2400" spc="-1" strike="noStrike">
              <a:solidFill>
                <a:srgbClr val="438086"/>
              </a:solidFill>
              <a:latin typeface="Microsoft Sans Serif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A gas with particles that are in constant random motion but have no attraction for each other is called an ideal gas.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Ideal gases undergo elastic collisions.</a:t>
            </a:r>
            <a:endParaRPr b="0" lang="en-US" sz="24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Kinetic Model of Gases Continued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7924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Except at very low temperatures or very high pressures, nearly all real gases behave as ideal gases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kinetic theory explains why gases fill their container and why they exert pressure on the walls of the container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gas particles move randomly in all directions until they strike the walls or other particles and bounce back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Pre-Class Question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447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ry to lift the mat off of the lab table in the back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an you do it?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What force is acting on the mat?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232" name="Picture 5" descr="http://media-2.web.britannica.com/eb-media/98/74598-050-EAACFFD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4419720"/>
            <a:ext cx="285768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More on the Kinetic Model of Gases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Pressure is the force acting on a unit area of a surface (the force per square centimeter)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Earth’s atmosphere, which is a mixture of gases, exerts a pressure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Atmospheric pressure is caused by the constant bombardment of the molecules and atoms in air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23:23:40Z</dcterms:created>
  <dc:creator>Dawn</dc:creator>
  <dc:description/>
  <dc:language>en-US</dc:language>
  <cp:lastModifiedBy>Dawn</cp:lastModifiedBy>
  <dcterms:modified xsi:type="dcterms:W3CDTF">2014-05-11T22:44:16Z</dcterms:modified>
  <cp:revision>38</cp:revision>
  <dc:subject/>
  <dc:title>Chapter 10</dc:title>
</cp:coreProperties>
</file>